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F9B-EF90-405A-8808-E7A5A472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595-7FB3-44B1-AFAA-2F35EA1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B06-F0EE-47C0-BB33-7E16E600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DA3-231B-48CE-8F99-275A6F77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796-49FB-4B22-BAFB-E9A894D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E7A-DCD4-4E7E-83C1-3ACB699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F27-F95B-49AC-B792-FCCDE44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4AA-14D4-462D-B63F-B3D3C1A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AE9-9566-48DD-9C22-D4C058A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7A7-4FCD-4AB9-88A9-DD45CDD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912-4C10-46A9-B0BD-5866D3E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B56-4C92-4244-97AA-D9C621B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1A4-E148-4EAF-A5CF-75D770F7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Dropping Of The Atomic Bombs O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By: Brandon and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Old English Text MT"/>
              </a:rPr>
              <a:t>When and Where it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120" y="3962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tomic bomb was dropped on Hiroshima on Monday, August 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econd Atomic bomb was dropped on Nagasaki on August 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Dropped it and Who Helped M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tomic bomb was tested in New Mexico and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was dropped by the United States of America Ai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had to be cleared to be dropped by the Joint Chiefs of Staff of the War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Had a Big Role in The B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did most of the work for the bombing of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 have some help from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role the united states played in the bombing was the actual bombing itself and the making of the bom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y is The Event Memor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bombing in Japan is a memorable moment because pearl harbor was right before the bombing in Japan happ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of the veterans who survived pearl harbor, they might of taken this as reve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Why is This Relevant to W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ings on Japan were relevant to World War 2 because in WWII the Japanese attacked pearl harbor which got United States into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earl harbor incident didn’t happen, the bombings on Japan would not of been relevant to World War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1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2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3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4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5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6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1 -www.worldboo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2 -Bombing of Hiroshima-Encyclop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3 -www.icon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14:01Z</dcterms:created>
  <dc:creator>41251</dc:creator>
  <dc:description/>
  <dc:language>en-US</dc:language>
  <cp:lastModifiedBy>Safe Internet</cp:lastModifiedBy>
  <dcterms:modified xsi:type="dcterms:W3CDTF">2005-02-01T04:22:00Z</dcterms:modified>
  <cp:revision>7</cp:revision>
  <dc:subject/>
  <dc:title>Dropping Of The Atomic Bombs On Japan</dc:title>
</cp:coreProperties>
</file>